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37DE-E60E-4BD5-9AB0-1A17CC3D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F893-42AB-419A-BF29-A7563548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1004-D444-436D-AC61-09F8A925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1E6-66CE-4075-B2CE-BCEFA1F4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953E-09DF-4D14-A041-A1E11BBC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1EEA-5518-4AB0-BF16-94CDB5EC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6337-6BF7-4BB6-B50A-8684EC6A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EEE9-CAEC-4A39-B292-CA87A7AD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4488-1130-438D-85AD-8B35E69D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3514-BBD9-4A13-ABCE-0CB65DE8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875D-5BE5-4DBC-8908-4C6F5A6B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7C30-4782-48E7-8DBE-731D3BA2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9263-3F65-49C9-9181-E4D54F7B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F7E0-3A7C-4AAB-829F-73DACADE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1BCF-8341-49AE-837F-20E7FE7E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F01B-A6E5-42DE-805B-8AB1F0EB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CF8F-AA41-4BD6-8C0E-A8AC7B2C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55A1-3B27-4869-BA0D-3CCF274B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0F8-6250-4652-98C3-88369E8F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FFAE-06FC-48FE-B847-B223D08E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00E-4955-4DEF-A2E1-9C6726D2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F02C-2BD6-47C8-AE5A-F3FFE829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744-105D-4637-AB95-E9B48B54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9FE2-E012-47B1-9ABA-628ED4EC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1A98-1786-4612-B944-FE9EB9BFC3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86B5-B016-4439-8E01-6DAF13888D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ollusc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hylum Mollus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ylu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llusc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ins the soft-bodie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invertebra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eans that mollusks do not have a backb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48520" y="3657600"/>
            <a:ext cx="2381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ree Major Mollusk Classes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in classes under Mollusca.  They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ropo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“stomach-footed” mollusks lik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n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ivalv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“two-shelled mollusks” like oysters, clams, muss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ephalopo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“cephalopods” like the squid, octopus, and cuttle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2324160" cy="1936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209680" y="2819520"/>
            <a:ext cx="276228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6:49:02Z</dcterms:created>
  <dc:creator>kmcgrady</dc:creator>
  <dc:description/>
  <dc:language>en-US</dc:language>
  <cp:lastModifiedBy>kmcgrady</cp:lastModifiedBy>
  <dcterms:modified xsi:type="dcterms:W3CDTF">2011-02-22T17:28:16Z</dcterms:modified>
  <cp:revision>2</cp:revision>
  <dc:subject/>
  <dc:title>Mollusca</dc:title>
</cp:coreProperties>
</file>